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1A6-B72F-4F86-B925-FEC1EE7F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431-B54B-4055-897C-BB99FD0E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EC8-5BCF-47BB-9B8D-432A3667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C63-3BB8-444B-B6AF-7396FAEA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526-964A-467E-8384-C011F723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FBFA-6D26-4E49-B3E1-7D907BF8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50C-BD16-4664-B611-4DF7265C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F80-B254-43E6-9BF5-8D155D29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F02-A14B-4E33-8DFF-D17CC403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9DF-4477-4276-A615-F39DA925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6EA-63A3-411B-B824-4946B497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8AE-B003-48DE-A376-E6858AD5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FC31-9967-4246-A03A-55BFB08B8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34920" y="367200"/>
            <a:ext cx="9213480" cy="61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Живота Си за теб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Аз дадох, твоя Спас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т смърт да те спася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пролях кръвта Си Аз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Умрях на кръст ти да си жив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и в вечността щастлив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о смърт за тебе Съм страдал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Мен ти що си да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896760" y="700920"/>
            <a:ext cx="768348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ставих светъл дом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ставих слава там;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във земна тъмнин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ойдох - теб светлина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Престол оставих за бед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и ангелски среди;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и нещо - помисли - дал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Мен оставил с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710640" y="700920"/>
            <a:ext cx="730836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тебе Аз страдах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в пот кървав се облях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т тежка скръб обзет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на кръст Аз бях разпет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Езикът ти, о, грешниче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не мож го изрече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ега добре си помисли -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Мен страдал ли с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00:40:38Z</dcterms:created>
  <dc:creator>TrifonTrifonow</dc:creator>
  <dc:description/>
  <dc:language>en-US</dc:language>
  <cp:lastModifiedBy>TrifonTrifonow</cp:lastModifiedBy>
  <dcterms:modified xsi:type="dcterms:W3CDTF">2005-11-22T07:32:36Z</dcterms:modified>
  <cp:revision>4</cp:revision>
  <dc:subject/>
  <dc:title>Slide 1</dc:title>
</cp:coreProperties>
</file>